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0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80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D5D0830-1BA8-450A-9C3C-86D90F981B0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0AFCE8C-0BB2-4F07-A252-855C6C7894F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b">
            <a:noAutofit/>
          </a:bodyPr>
          <a:p>
            <a:pPr algn="r">
              <a:tabLst>
                <a:tab algn="l" pos="0"/>
                <a:tab algn="l" pos="609480"/>
                <a:tab algn="l" pos="1219320"/>
                <a:tab algn="l" pos="1828800"/>
                <a:tab algn="l" pos="2438280"/>
                <a:tab algn="l" pos="3048120"/>
                <a:tab algn="l" pos="3657600"/>
                <a:tab algn="l" pos="426708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fld id="{13AA9BE2-CB30-4AD4-A790-AFFEE5129FB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640" y="4387320"/>
            <a:ext cx="5608800" cy="4156200"/>
          </a:xfrm>
          <a:prstGeom prst="rect">
            <a:avLst/>
          </a:prstGeom>
          <a:noFill/>
          <a:ln w="0">
            <a:noFill/>
          </a:ln>
        </p:spPr>
        <p:txBody>
          <a:bodyPr lIns="60840" rIns="60840" tIns="30600" bIns="30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s Hutchinson River Parkway, Cross Bronx Expressway and New England Thruway to Cross Island Parkway, Van Wyck Expressway, LIE, and Grand Cen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5185411-221D-4A88-BEFC-A8837F448E7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210785B8-1C52-4851-890D-243B5FD302D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774280"/>
            <a:ext cx="3038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9902D06-EE99-4E5C-A61B-499FC99B5FA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b">
            <a:noAutofit/>
          </a:bodyPr>
          <a:p>
            <a:pPr algn="r"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7C1A7961-99CB-4B74-94C9-7A8149CCBE5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9BD-DADB-4E9C-9A05-75F6DC0D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263-F285-4FFD-938F-FD0A573F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A21A-C56B-473A-B60C-0F92A4F45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567-6CD7-4E34-87B6-74B7876A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599-E9B0-4C9F-9C69-A768169D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8FE-4C93-4FB0-B6BD-5E9BC0CB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F9D1-9110-4EDF-817C-EA847052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4F3-8918-4157-8887-B3CFC96F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FB1B-E774-4C07-84E5-E81BFE3B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A6B-AD1E-4F87-8447-E0424488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86F7-E2CD-49C0-A6D6-EDB8934E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B3C-4C3F-4CE4-A6C1-55A47158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7821-BED3-45BC-ABAB-DD429BC02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BRONX16"/>
          <p:cNvPicPr/>
          <p:nvPr/>
        </p:nvPicPr>
        <p:blipFill>
          <a:blip r:embed="rId1"/>
          <a:stretch/>
        </p:blipFill>
        <p:spPr>
          <a:xfrm>
            <a:off x="1297080" y="0"/>
            <a:ext cx="66276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307080"/>
            <a:ext cx="70866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Replacement of the Queens Approach Bronx-Whitestone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1447920" y="2971800"/>
            <a:ext cx="6095880" cy="794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4600" spc="-1" strike="noStrike">
                <a:solidFill>
                  <a:srgbClr val="ffffff"/>
                </a:solidFill>
                <a:latin typeface="Arial Black"/>
              </a:rPr>
              <a:t>Risk Assessmen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0870-9D8D-4913-B325-5C8341570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28600" y="4495680"/>
            <a:ext cx="2209680" cy="2439360"/>
            <a:chOff x="228600" y="4495680"/>
            <a:chExt cx="2209680" cy="2439360"/>
          </a:xfrm>
        </p:grpSpPr>
        <p:graphicFrame>
          <p:nvGraphicFramePr>
            <p:cNvPr id="54" name="Object 5"/>
            <p:cNvGraphicFramePr/>
            <p:nvPr/>
          </p:nvGraphicFramePr>
          <p:xfrm>
            <a:off x="564840" y="449568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5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449568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Text Box 6"/>
            <p:cNvSpPr/>
            <p:nvPr/>
          </p:nvSpPr>
          <p:spPr>
            <a:xfrm>
              <a:off x="228600" y="610956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Bridges 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Cost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338120"/>
          <a:ext cx="7925040" cy="4422960"/>
        </p:xfrm>
        <a:graphic>
          <a:graphicData uri="http://schemas.openxmlformats.org/drawingml/2006/table">
            <a:tbl>
              <a:tblPr/>
              <a:tblGrid>
                <a:gridCol w="3124440"/>
                <a:gridCol w="1676160"/>
                <a:gridCol w="3124440"/>
              </a:tblGrid>
              <a:tr h="176472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610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to address mitigation of Community Sensitivities such as noise, and construction related environmental iss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e outreach with the community and elected officials, anticipate and address mitigations, such as noise wall installations, and employ extensive site debris manag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costs resulting from construction delays, such as security and  traffic challeng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dite evaluation and processing of warranted change orders related to delays eliminating any impact to construction progress/schedule.  Continue to review and revise MPT staging to expedite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" marR="5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635E-1950-4CD3-BC65-C7F62B3F4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ajor Schedule 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s and Mitig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648320" y="1600200"/>
          <a:ext cx="4038480" cy="3992400"/>
        </p:xfrm>
        <a:graphic>
          <a:graphicData uri="http://schemas.openxmlformats.org/drawingml/2006/table">
            <a:tbl>
              <a:tblPr/>
              <a:tblGrid>
                <a:gridCol w="2001600"/>
                <a:gridCol w="800280"/>
                <a:gridCol w="608040"/>
                <a:gridCol w="62856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85800" y="1447920"/>
          <a:ext cx="7772400" cy="5010120"/>
        </p:xfrm>
        <a:graphic>
          <a:graphicData uri="http://schemas.openxmlformats.org/drawingml/2006/table">
            <a:tbl>
              <a:tblPr/>
              <a:tblGrid>
                <a:gridCol w="2719440"/>
                <a:gridCol w="2247840"/>
                <a:gridCol w="2805120"/>
              </a:tblGrid>
              <a:tr h="1663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720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(or different) Maintenance of Traffic needed to accommodate traffic de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ly monitor traffic conditions and be pro-active with correction/ adjustments of MPT/ staging.  Coordinate with NYCDOT and NYSDO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520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der placement problems (Site logisti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and ensure Contractor’s means and methods are efficient to eliminate potential delays related to Girder placement.  Use lessons learned from Bronx Approach construc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nticipated structural maintenance repai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ipate and aggressively evaluate and inspect existing structure during construction to limit/eliminate resulting delay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DF00-13F5-4FF1-80D5-AD7879028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XT STEPS PRIOR TO CONSTRUCTION CONTRACT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Bid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Contractor Qualification 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id Analysis and determine recommendations with respect to low bi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5751-1B19-48FC-BD14-FF2A2619E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2306032357_8643f105e0"/>
          <p:cNvPicPr/>
          <p:nvPr/>
        </p:nvPicPr>
        <p:blipFill>
          <a:blip r:embed="rId1"/>
          <a:stretch/>
        </p:blipFill>
        <p:spPr>
          <a:xfrm>
            <a:off x="-44280" y="533520"/>
            <a:ext cx="9188280" cy="55497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280B-3986-49FD-A050-14712738F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228600" y="3657600"/>
            <a:ext cx="2209680" cy="2439360"/>
            <a:chOff x="228600" y="3657600"/>
            <a:chExt cx="2209680" cy="2439360"/>
          </a:xfrm>
        </p:grpSpPr>
        <p:graphicFrame>
          <p:nvGraphicFramePr>
            <p:cNvPr id="160" name="Object 5"/>
            <p:cNvGraphicFramePr/>
            <p:nvPr/>
          </p:nvGraphicFramePr>
          <p:xfrm>
            <a:off x="564840" y="3657600"/>
            <a:ext cx="1873440" cy="2076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1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4840" y="3657600"/>
                      <a:ext cx="1873440" cy="207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Text Box 6"/>
            <p:cNvSpPr/>
            <p:nvPr/>
          </p:nvSpPr>
          <p:spPr>
            <a:xfrm>
              <a:off x="228600" y="5271480"/>
              <a:ext cx="206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ridge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&amp; Tunn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3"/>
          <p:cNvGraphicFramePr/>
          <p:nvPr/>
        </p:nvGraphicFramePr>
        <p:xfrm>
          <a:off x="380880" y="2286000"/>
          <a:ext cx="84582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84582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32920" y="4038480"/>
            <a:ext cx="73080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81280" y="3962520"/>
            <a:ext cx="82548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222268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>
            <a:off x="5486040" y="1905120"/>
            <a:ext cx="30481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1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Bronx Whitestone Bridge Sequence of Major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Black"/>
              </a:rPr>
              <a:t>Past-Present-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2"/>
          <p:cNvSpPr/>
          <p:nvPr/>
        </p:nvSpPr>
        <p:spPr>
          <a:xfrm>
            <a:off x="5562720" y="3200400"/>
            <a:ext cx="1371600" cy="8380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80880" y="1055520"/>
            <a:ext cx="2743200" cy="1128960"/>
          </a:xfrm>
          <a:prstGeom prst="rect">
            <a:avLst/>
          </a:prstGeom>
          <a:solidFill>
            <a:srgbClr val="006600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8 –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Bronx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2819520" y="4876920"/>
            <a:ext cx="3733560" cy="1646640"/>
          </a:xfrm>
          <a:prstGeom prst="rect">
            <a:avLst/>
          </a:prstGeom>
          <a:solidFill>
            <a:srgbClr val="5f5f5f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03-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uspension Span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oval of Stiffening Tru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allation of Wind Fai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Roadway D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inting of Tow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6095880" y="1055520"/>
            <a:ext cx="2743200" cy="1128960"/>
          </a:xfrm>
          <a:prstGeom prst="rect">
            <a:avLst/>
          </a:prstGeom>
          <a:solidFill>
            <a:srgbClr val="26267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2011 –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ment of the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BW89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3200400" y="1332000"/>
            <a:ext cx="2819520" cy="1128960"/>
          </a:xfrm>
          <a:prstGeom prst="rect">
            <a:avLst/>
          </a:prstGeom>
          <a:solidFill>
            <a:srgbClr val="990033"/>
          </a:solidFill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EYOND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spender Rope Replacement, Main Cable Rehab. and Toll Pl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1"/>
          <p:cNvCxnSpPr>
            <a:stCxn id="66" idx="2"/>
          </p:cNvCxnSpPr>
          <p:nvPr/>
        </p:nvCxnSpPr>
        <p:spPr>
          <a:xfrm flipH="1">
            <a:off x="6400080" y="2193840"/>
            <a:ext cx="1067400" cy="1388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69" name="Straight Arrow Connector 33"/>
          <p:cNvCxnSpPr>
            <a:stCxn id="64" idx="2"/>
          </p:cNvCxnSpPr>
          <p:nvPr/>
        </p:nvCxnSpPr>
        <p:spPr>
          <a:xfrm>
            <a:off x="1752480" y="2193840"/>
            <a:ext cx="1067760" cy="14644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lg"/>
          </a:ln>
        </p:spPr>
      </p:cxnSp>
      <p:cxnSp>
        <p:nvCxnSpPr>
          <p:cNvPr id="70" name="Straight Arrow Connector 38"/>
          <p:cNvCxnSpPr>
            <a:stCxn id="65" idx="0"/>
          </p:cNvCxnSpPr>
          <p:nvPr/>
        </p:nvCxnSpPr>
        <p:spPr>
          <a:xfrm flipH="1" flipV="1">
            <a:off x="3504600" y="3656880"/>
            <a:ext cx="118188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cxnSp>
        <p:nvCxnSpPr>
          <p:cNvPr id="71" name="Straight Arrow Connector 40"/>
          <p:cNvCxnSpPr/>
          <p:nvPr/>
        </p:nvCxnSpPr>
        <p:spPr>
          <a:xfrm flipV="1">
            <a:off x="4723200" y="3656880"/>
            <a:ext cx="1143720" cy="1220040"/>
          </a:xfrm>
          <a:prstGeom prst="straightConnector1">
            <a:avLst/>
          </a:prstGeom>
          <a:ln w="25560">
            <a:solidFill>
              <a:srgbClr val="ffffff"/>
            </a:solidFill>
            <a:prstDash val="sysDash"/>
            <a:miter/>
            <a:tailEnd len="med" type="stealth" w="lg"/>
          </a:ln>
        </p:spPr>
      </p:cxnSp>
      <p:sp>
        <p:nvSpPr>
          <p:cNvPr id="72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2331-E206-43BD-BE99-A4ED5E183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-304920" y="416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868320"/>
            <a:ext cx="838188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Queens Approach Project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erial view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0988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76" name="Text Box 5"/>
          <p:cNvSpPr/>
          <p:nvPr/>
        </p:nvSpPr>
        <p:spPr>
          <a:xfrm>
            <a:off x="1447920" y="2286000"/>
            <a:ext cx="1898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13716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2286000" y="28954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8"/>
          <p:cNvSpPr/>
          <p:nvPr/>
        </p:nvSpPr>
        <p:spPr>
          <a:xfrm>
            <a:off x="1371600" y="31240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>
            <a:off x="1295280" y="2514600"/>
            <a:ext cx="38124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1295280" y="2514600"/>
            <a:ext cx="152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914400" y="5257800"/>
            <a:ext cx="7313760" cy="8380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ffff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 flipH="1">
            <a:off x="7696080" y="4495680"/>
            <a:ext cx="53352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7848720" y="2590920"/>
            <a:ext cx="609480" cy="457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1371600" y="33526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8"/>
          <p:cNvSpPr/>
          <p:nvPr/>
        </p:nvSpPr>
        <p:spPr>
          <a:xfrm flipV="1">
            <a:off x="6400800" y="2742840"/>
            <a:ext cx="1676520" cy="609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6400800" y="3352680"/>
            <a:ext cx="1600200" cy="1371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86240" y="2971800"/>
            <a:ext cx="1758240" cy="36828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FBF2-3153-4DB8-ADDD-8A9872208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34960" y="4114800"/>
            <a:ext cx="227628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eens Anch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762120" y="3733920"/>
            <a:ext cx="4572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7840" y="4419720"/>
            <a:ext cx="279576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testone Express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V="1">
            <a:off x="5943600" y="4038120"/>
            <a:ext cx="457200" cy="381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260320" y="2133720"/>
            <a:ext cx="2541240" cy="36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oss Island Park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7772400" y="2362320"/>
            <a:ext cx="53352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4038480"/>
            <a:ext cx="50292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tructed in 193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ensive recurring needs for roadway repairs and temporary steel rep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rrow la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shou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lnSpc>
                <a:spcPct val="100000"/>
              </a:lnSpc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 designed for current traffic 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spcAft>
                <a:spcPts val="300"/>
              </a:spcAft>
              <a:buClr>
                <a:srgbClr val="990033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meet current Seismic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"/>
          <p:cNvPicPr/>
          <p:nvPr/>
        </p:nvPicPr>
        <p:blipFill>
          <a:blip r:embed="rId1"/>
          <a:stretch/>
        </p:blipFill>
        <p:spPr>
          <a:xfrm>
            <a:off x="4876920" y="152280"/>
            <a:ext cx="4038480" cy="1474920"/>
          </a:xfrm>
          <a:prstGeom prst="rect">
            <a:avLst/>
          </a:prstGeom>
          <a:ln w="9360">
            <a:solidFill>
              <a:srgbClr val="262673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561924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1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00120" y="83808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1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472800" y="838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9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Queens Approach4"/>
          <p:cNvPicPr/>
          <p:nvPr/>
        </p:nvPicPr>
        <p:blipFill>
          <a:blip r:embed="rId2"/>
          <a:stretch/>
        </p:blipFill>
        <p:spPr>
          <a:xfrm>
            <a:off x="5105520" y="1676520"/>
            <a:ext cx="3692520" cy="492264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2" name="Rectangle 8"/>
          <p:cNvSpPr/>
          <p:nvPr/>
        </p:nvSpPr>
        <p:spPr>
          <a:xfrm>
            <a:off x="304920" y="228600"/>
            <a:ext cx="4419360" cy="33732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ditions: Existing Queen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IMG_6374"/>
          <p:cNvPicPr/>
          <p:nvPr/>
        </p:nvPicPr>
        <p:blipFill>
          <a:blip r:embed="rId3"/>
          <a:stretch/>
        </p:blipFill>
        <p:spPr>
          <a:xfrm>
            <a:off x="380880" y="762120"/>
            <a:ext cx="4267440" cy="3200400"/>
          </a:xfrm>
          <a:prstGeom prst="rect">
            <a:avLst/>
          </a:prstGeom>
          <a:ln w="12600">
            <a:solidFill>
              <a:srgbClr val="262673"/>
            </a:solidFill>
            <a:miter/>
          </a:ln>
        </p:spPr>
      </p:pic>
      <p:sp>
        <p:nvSpPr>
          <p:cNvPr id="10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D414-4A48-4698-9D00-B10628D60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BW-89_CrossSection"/>
          <p:cNvPicPr/>
          <p:nvPr/>
        </p:nvPicPr>
        <p:blipFill>
          <a:blip r:embed="rId1"/>
          <a:stretch/>
        </p:blipFill>
        <p:spPr>
          <a:xfrm>
            <a:off x="5105520" y="1219320"/>
            <a:ext cx="3504960" cy="3422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grpSp>
        <p:nvGrpSpPr>
          <p:cNvPr id="106" name="Group 25"/>
          <p:cNvGrpSpPr/>
          <p:nvPr/>
        </p:nvGrpSpPr>
        <p:grpSpPr>
          <a:xfrm>
            <a:off x="5638680" y="1295280"/>
            <a:ext cx="1162440" cy="382680"/>
            <a:chOff x="5638680" y="1295280"/>
            <a:chExt cx="1162440" cy="382680"/>
          </a:xfrm>
        </p:grpSpPr>
        <p:sp>
          <p:nvSpPr>
            <p:cNvPr id="107" name="Line 14"/>
            <p:cNvSpPr/>
            <p:nvPr/>
          </p:nvSpPr>
          <p:spPr>
            <a:xfrm>
              <a:off x="563868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5"/>
            <p:cNvSpPr/>
            <p:nvPr/>
          </p:nvSpPr>
          <p:spPr>
            <a:xfrm>
              <a:off x="6019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6"/>
            <p:cNvSpPr/>
            <p:nvPr/>
          </p:nvSpPr>
          <p:spPr>
            <a:xfrm>
              <a:off x="6400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7"/>
            <p:cNvSpPr/>
            <p:nvPr/>
          </p:nvSpPr>
          <p:spPr>
            <a:xfrm>
              <a:off x="67820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8"/>
            <p:cNvSpPr/>
            <p:nvPr/>
          </p:nvSpPr>
          <p:spPr>
            <a:xfrm>
              <a:off x="563868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0"/>
            <p:cNvSpPr/>
            <p:nvPr/>
          </p:nvSpPr>
          <p:spPr>
            <a:xfrm>
              <a:off x="565704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1"/>
            <p:cNvSpPr/>
            <p:nvPr/>
          </p:nvSpPr>
          <p:spPr>
            <a:xfrm>
              <a:off x="6037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41916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6"/>
          <p:cNvGrpSpPr/>
          <p:nvPr/>
        </p:nvGrpSpPr>
        <p:grpSpPr>
          <a:xfrm>
            <a:off x="7048440" y="1295280"/>
            <a:ext cx="1162440" cy="382680"/>
            <a:chOff x="7048440" y="1295280"/>
            <a:chExt cx="1162440" cy="382680"/>
          </a:xfrm>
        </p:grpSpPr>
        <p:sp>
          <p:nvSpPr>
            <p:cNvPr id="116" name="Line 10"/>
            <p:cNvSpPr/>
            <p:nvPr/>
          </p:nvSpPr>
          <p:spPr>
            <a:xfrm>
              <a:off x="819180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"/>
            <p:cNvSpPr/>
            <p:nvPr/>
          </p:nvSpPr>
          <p:spPr>
            <a:xfrm>
              <a:off x="781056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742932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>
              <a:off x="7048440" y="1295280"/>
              <a:ext cx="0" cy="22860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9"/>
            <p:cNvSpPr/>
            <p:nvPr/>
          </p:nvSpPr>
          <p:spPr>
            <a:xfrm>
              <a:off x="7048440" y="1371240"/>
              <a:ext cx="1143360" cy="0"/>
            </a:xfrm>
            <a:prstGeom prst="line">
              <a:avLst/>
            </a:prstGeom>
            <a:ln w="93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4"/>
            <p:cNvSpPr/>
            <p:nvPr/>
          </p:nvSpPr>
          <p:spPr>
            <a:xfrm>
              <a:off x="706680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5"/>
            <p:cNvSpPr/>
            <p:nvPr/>
          </p:nvSpPr>
          <p:spPr>
            <a:xfrm>
              <a:off x="744768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6"/>
            <p:cNvSpPr/>
            <p:nvPr/>
          </p:nvSpPr>
          <p:spPr>
            <a:xfrm>
              <a:off x="7828920" y="1401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12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5029200" y="4727520"/>
            <a:ext cx="3581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W PIER/ROAD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’ wide lanes with shou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685800" y="304920"/>
            <a:ext cx="7696080" cy="76176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ture Newly Constructed Queens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3" descr="Offshore_Proposed"/>
          <p:cNvPicPr/>
          <p:nvPr/>
        </p:nvPicPr>
        <p:blipFill>
          <a:blip r:embed="rId2"/>
          <a:stretch/>
        </p:blipFill>
        <p:spPr>
          <a:xfrm>
            <a:off x="1600200" y="1219320"/>
            <a:ext cx="3327480" cy="24955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27" name="Freeform 30"/>
          <p:cNvSpPr/>
          <p:nvPr/>
        </p:nvSpPr>
        <p:spPr>
          <a:xfrm>
            <a:off x="2933640" y="1849320"/>
            <a:ext cx="2465280" cy="1108080"/>
          </a:xfrm>
          <a:custGeom>
            <a:avLst/>
            <a:gdLst/>
            <a:ahLst/>
            <a:rect l="l" t="t" r="r" b="b"/>
            <a:pathLst>
              <a:path w="2464905" h="1107882">
                <a:moveTo>
                  <a:pt x="0" y="1107882"/>
                </a:moveTo>
                <a:cubicBezTo>
                  <a:pt x="64935" y="955482"/>
                  <a:pt x="129871" y="803082"/>
                  <a:pt x="238539" y="662609"/>
                </a:cubicBezTo>
                <a:cubicBezTo>
                  <a:pt x="347207" y="522136"/>
                  <a:pt x="502257" y="368411"/>
                  <a:pt x="652007" y="265044"/>
                </a:cubicBezTo>
                <a:cubicBezTo>
                  <a:pt x="801757" y="161677"/>
                  <a:pt x="987287" y="84814"/>
                  <a:pt x="1137037" y="42407"/>
                </a:cubicBezTo>
                <a:cubicBezTo>
                  <a:pt x="1286787" y="0"/>
                  <a:pt x="1414008" y="3976"/>
                  <a:pt x="1550505" y="10602"/>
                </a:cubicBezTo>
                <a:cubicBezTo>
                  <a:pt x="1687002" y="17228"/>
                  <a:pt x="1856630" y="56985"/>
                  <a:pt x="1956021" y="82164"/>
                </a:cubicBezTo>
                <a:cubicBezTo>
                  <a:pt x="2055412" y="107343"/>
                  <a:pt x="2062038" y="117945"/>
                  <a:pt x="2146852" y="161677"/>
                </a:cubicBezTo>
                <a:cubicBezTo>
                  <a:pt x="2231666" y="205409"/>
                  <a:pt x="2348285" y="274983"/>
                  <a:pt x="2464905" y="344557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8740-254C-424A-A25A-B8C001340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938760"/>
            <a:ext cx="45720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THE ENTIRE 1,010 FT QUEENS APPROACH VIADU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Construct New Foundations &amp; Pi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done under Roadway – no traffic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1 thru Mid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Staged Replacement of Roadway while maintain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rly 2012 – Late 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hase II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Demolish existing piers/perform ground level site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work under Roadway – no traffic imp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DF7C-27E3-428B-B6DE-A3E2E3121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" y="274680"/>
            <a:ext cx="8763120" cy="639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itigation Built into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457200"/>
            <a:ext cx="83059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ons Learned from ongoing Bronx Approach 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0M of preparatory construction alread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pre-construction outreach with community, elected officials, and other City and State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raffic Enforcement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itigation measure – Temporary closure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nue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al coordination of Capit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uction Task Budget:                      $24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ineer’s Estimate:                                 $179,00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                                                      $109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Bid vs. Budget                                    $131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000" indent="0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nstruction Cos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6E1A-9C9B-488D-81C9-D183572C2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E278-7ACD-47B6-8855-8F3691844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28600" y="533520"/>
            <a:ext cx="8686800" cy="581400"/>
          </a:xfrm>
          <a:prstGeom prst="rect">
            <a:avLst/>
          </a:prstGeom>
          <a:solidFill>
            <a:srgbClr val="00336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isk Assessment Results (Post b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uction Co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Bid/ Schedu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$109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1M/ 5mo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$130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ject Cost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ion, CSS, Inspection, etc.          $135 M/ 42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ed ($27M/ 5 mo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$162 M/ 47 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8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Distribution for Remaining Total Project Escala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0" r="0" b="8524"/>
          <a:stretch/>
        </p:blipFill>
        <p:spPr>
          <a:xfrm>
            <a:off x="457200" y="1814400"/>
            <a:ext cx="8229600" cy="3748320"/>
          </a:xfrm>
          <a:prstGeom prst="rect">
            <a:avLst/>
          </a:prstGeom>
          <a:ln w="0">
            <a:noFill/>
          </a:ln>
        </p:spPr>
      </p:pic>
      <p:cxnSp>
        <p:nvCxnSpPr>
          <p:cNvPr id="141" name="Straight Arrow Connector 4"/>
          <p:cNvCxnSpPr/>
          <p:nvPr/>
        </p:nvCxnSpPr>
        <p:spPr>
          <a:xfrm>
            <a:off x="1980720" y="2819520"/>
            <a:ext cx="2134440" cy="2160"/>
          </a:xfrm>
          <a:prstGeom prst="straightConnector1">
            <a:avLst/>
          </a:prstGeom>
          <a:ln w="3816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cxnSp>
        <p:nvCxnSpPr>
          <p:cNvPr id="142" name="Straight Arrow Connector 6"/>
          <p:cNvCxnSpPr/>
          <p:nvPr/>
        </p:nvCxnSpPr>
        <p:spPr>
          <a:xfrm flipH="1">
            <a:off x="4114440" y="2972880"/>
            <a:ext cx="2160" cy="2056680"/>
          </a:xfrm>
          <a:prstGeom prst="straightConnector1">
            <a:avLst/>
          </a:prstGeom>
          <a:ln w="34920">
            <a:solidFill>
              <a:srgbClr val="002060"/>
            </a:solidFill>
            <a:prstDash val="sysDash"/>
            <a:miter/>
            <a:tailEnd len="med" type="triangle" w="med"/>
          </a:ln>
        </p:spPr>
      </p:cxnSp>
      <p:sp>
        <p:nvSpPr>
          <p:cNvPr id="143" name="Oval 11"/>
          <p:cNvSpPr/>
          <p:nvPr/>
        </p:nvSpPr>
        <p:spPr>
          <a:xfrm>
            <a:off x="3581280" y="5029200"/>
            <a:ext cx="990720" cy="4572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16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3276720" y="5638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Project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22:03:38Z</dcterms:created>
  <dc:creator>tlewis</dc:creator>
  <dc:description/>
  <dc:language>en-US</dc:language>
  <cp:lastModifiedBy>csaladin</cp:lastModifiedBy>
  <dcterms:modified xsi:type="dcterms:W3CDTF">2011-05-18T16:42:14Z</dcterms:modified>
  <cp:revision>284</cp:revision>
  <dc:subject/>
  <dc:title>Slide 1</dc:title>
</cp:coreProperties>
</file>